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10D2-458D-4478-B0C1-7AE55D5A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98B1-F64E-45E8-96C4-343CF262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6BEA-F5BA-43E8-89F2-47DBFBA23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CAE0-0C9E-413D-A678-3CAC3B902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41F2-25FC-4C52-BB9B-97921676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7F56-A3AC-409B-B077-AA3A03BA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10CE-C8FD-4F35-BDBB-76166892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0B04-A506-4A3C-A447-228CD358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3407-C86F-4635-B483-BB0AD144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241D-4C6F-4421-8D7B-F89DD0F1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3556-C911-4856-A1F3-5721253A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94FF-136A-4BD3-A5BD-7937C2FA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2CC4-8B3C-449E-974C-DDC13319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4274-B383-4F76-A8B2-89F7BFC6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D22C-4853-4152-B312-180F1D45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20FE-8E13-4316-9701-6E7267F5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50C1-D265-4DE3-BDBC-D7866640F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72653-D5E5-4CB5-89C5-4A9DE032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8F250-1AA8-4659-B5F8-EDC02D50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ECD2B-67CB-4F9B-8F90-CB5139BA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C56DD-E992-4250-9031-7029CD83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E8184-4C47-4C61-9D09-5BB45182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8171-FB3B-4EB5-8F32-F0C1EC22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E6D9D-6BA9-4C5E-9653-42417E3B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AF0D1-198A-414A-A7B3-73938690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E2D2E-C672-4793-81D8-5ECB1998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BB27A-6880-4BC5-834D-79E7B218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94853-114C-4054-B51B-3E3EF73C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671ED-570F-458C-981D-B00A81010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75861-B7C8-49F0-BA4A-26E67E0F6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49258-0331-4608-8413-EDA4FCE61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8FBB5-7BA6-4317-B269-70DB22AC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B5CE9-3636-4B57-A1D2-1D90FAB2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33E1-73F0-4C77-B5AB-0CC2CC5F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E3ECD-1F02-4ACC-9EC6-DE55BEBF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FE919-401E-4548-9952-2FD7EB43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51A98-71FB-44EE-A005-BD1C1AF1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9366D-593E-4EB9-8E5B-DC55C22D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44260-5E55-4182-ACD0-AA4CD265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B9582-E385-49F2-A319-DE13693F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22D2F-9A50-48E4-B646-E1FA9030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8258D-4143-4307-812D-C2F4EC2E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3BC3C-EFD4-45F3-A993-15CB44C87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9DB1-1A03-4481-B5C3-8442AB4A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A31F-7E2D-42F3-9A7A-E8FE6ED9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5996-5083-498B-B7CC-28B5A774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602C-110F-41F9-9572-152261C4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AA21-73BA-43EF-8876-2B3C21E0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  <a:ea typeface="メイリオ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05F566-D3E5-4A60-86C1-0E4AE710F9BC}" type="slidenum">
              <a:rPr b="0" lang="en-US" sz="900" spc="-1" strike="noStrike">
                <a:solidFill>
                  <a:srgbClr val="90c226"/>
                </a:solidFill>
                <a:latin typeface="Times New Roman"/>
                <a:ea typeface="メイリオ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  <a:ea typeface="メイリオ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C4D02B-D6D4-4457-B3E0-AE2CF9696183}" type="slidenum">
              <a:rPr b="0" lang="en-US" sz="900" spc="-1" strike="noStrike">
                <a:solidFill>
                  <a:srgbClr val="90c226"/>
                </a:solidFill>
                <a:latin typeface="Times New Roman"/>
                <a:ea typeface="メイリオ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  <a:ea typeface="ＭＳ Ｐゴシック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  <a:ea typeface="ＭＳ Ｐゴシック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  <a:ea typeface="メイリオ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45DF8E-1B21-4BB4-8198-E2AF15D6BCD5}" type="slidenum">
              <a:rPr b="0" lang="en-US" sz="900" spc="-1" strike="noStrike">
                <a:solidFill>
                  <a:srgbClr val="90c226"/>
                </a:solidFill>
                <a:latin typeface="Times New Roman"/>
                <a:ea typeface="メイリオ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  <a:ea typeface="ＭＳ Ｐゴシック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  <a:ea typeface="ＭＳ Ｐゴシック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  <a:ea typeface="メイリオ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169296-9601-41FB-A1C7-DB18CA46CCE7}" type="slidenum">
              <a:rPr b="0" lang="en-US" sz="900" spc="-1" strike="noStrike">
                <a:solidFill>
                  <a:srgbClr val="90c226"/>
                </a:solidFill>
                <a:latin typeface="Times New Roman"/>
                <a:ea typeface="メイリオ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9280" y="1761840"/>
            <a:ext cx="7056720" cy="20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400" spc="-1" strike="noStrike">
                <a:solidFill>
                  <a:srgbClr val="90c226"/>
                </a:solidFill>
                <a:latin typeface="HGSｺﾞｼｯｸE"/>
                <a:ea typeface="HGSｺﾞｼｯｸE"/>
              </a:rPr>
              <a:t>板橋グリーンカレッジ専用ポータルサイト</a:t>
            </a:r>
            <a:br>
              <a:rPr sz="2400"/>
            </a:br>
            <a:r>
              <a:rPr b="1" lang="ja-JP" sz="2400" spc="-1" strike="noStrike">
                <a:solidFill>
                  <a:srgbClr val="90c226"/>
                </a:solidFill>
                <a:latin typeface="HGSｺﾞｼｯｸE"/>
                <a:ea typeface="HGSｺﾞｼｯｸE"/>
              </a:rPr>
              <a:t>システム構築及び運用・保守業務委託企画提案書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339640" y="3789000"/>
            <a:ext cx="532764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700" spc="-1" strike="noStrike">
                <a:solidFill>
                  <a:srgbClr val="90c226"/>
                </a:solidFill>
                <a:latin typeface="Trebuchet MS"/>
                <a:ea typeface="メイリオ"/>
              </a:rPr>
              <a:t>令和　　　年　　月　　日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2556000" y="4292640"/>
            <a:ext cx="57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【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留意事項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・提案書（副本）に社名・ロゴ等を記載しないこと。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7667640" y="620640"/>
            <a:ext cx="129528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7885080" y="1890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様式４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8524800" y="83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000" spc="-1" strike="noStrike">
                <a:solidFill>
                  <a:srgbClr val="90c226"/>
                </a:solidFill>
                <a:latin typeface="Trebuchet MS"/>
                <a:ea typeface="HGPｺﾞｼｯｸE"/>
              </a:rPr>
              <a:t>目次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404040"/>
                </a:solidFill>
                <a:latin typeface="ＭＳ Ｐ明朝"/>
                <a:ea typeface="ＭＳ Ｐ明朝"/>
              </a:rPr>
              <a:t>　あいうえお・・・</a:t>
            </a:r>
            <a:r>
              <a:rPr b="0" lang="en-US" sz="1200" spc="-1" strike="noStrike">
                <a:solidFill>
                  <a:srgbClr val="404040"/>
                </a:solidFill>
                <a:latin typeface="ＭＳ Ｐ明朝"/>
                <a:ea typeface="ＭＳ Ｐ明朝"/>
              </a:rPr>
              <a:t>12</a:t>
            </a:r>
            <a:r>
              <a:rPr b="0" lang="ja-JP" sz="1200" spc="-1" strike="noStrike">
                <a:solidFill>
                  <a:srgbClr val="404040"/>
                </a:solidFill>
                <a:latin typeface="ＭＳ Ｐ明朝"/>
                <a:ea typeface="ＭＳ Ｐ明朝"/>
              </a:rPr>
              <a:t>ポイント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0" name="Picture 4" descr="BD15034_"/>
          <p:cNvPicPr/>
          <p:nvPr/>
        </p:nvPicPr>
        <p:blipFill>
          <a:blip r:embed="rId1"/>
          <a:stretch/>
        </p:blipFill>
        <p:spPr>
          <a:xfrm>
            <a:off x="539640" y="765000"/>
            <a:ext cx="8209080" cy="136800"/>
          </a:xfrm>
          <a:prstGeom prst="rect">
            <a:avLst/>
          </a:prstGeom>
          <a:ln w="0">
            <a:noFill/>
          </a:ln>
        </p:spPr>
      </p:pic>
      <p:sp>
        <p:nvSpPr>
          <p:cNvPr id="221" name="スライド番号プレースホルダ 6"/>
          <p:cNvSpPr/>
          <p:nvPr/>
        </p:nvSpPr>
        <p:spPr>
          <a:xfrm>
            <a:off x="8245440" y="602136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EE0F11-EFCD-4BD3-971A-DDE6358BC1C4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2:00:28Z</dcterms:created>
  <dc:creator>板橋区</dc:creator>
  <dc:description/>
  <dc:language>en-US</dc:language>
  <cp:lastModifiedBy>長澤 一葉</cp:lastModifiedBy>
  <cp:lastPrinted>2019-01-07T23:26:14Z</cp:lastPrinted>
  <dcterms:modified xsi:type="dcterms:W3CDTF">2024-11-29T00:43:09Z</dcterms:modified>
  <cp:revision>69</cp:revision>
  <dc:subject/>
  <dc:title>板橋区気象観測システム 賃貸借事業提案書 ー 詳細版 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カテゴリ">
    <vt:lpwstr>全体</vt:lpwstr>
  </property>
  <property fmtid="{D5CDD505-2E9C-101B-9397-08002B2CF9AE}" pid="3" name="有効期限">
    <vt:lpwstr/>
  </property>
  <property fmtid="{D5CDD505-2E9C-101B-9397-08002B2CF9AE}" pid="4" name="重要度">
    <vt:lpwstr>中</vt:lpwstr>
  </property>
</Properties>
</file>